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8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670800" cy="99298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2152">
                <a:moveTo>
                  <a:pt x="5" y="0"/>
                </a:moveTo>
                <a:arcTo wR="5" hR="5" stAng="16200000" swAng="-5400000"/>
                <a:lnTo>
                  <a:pt x="0" y="32147"/>
                </a:lnTo>
                <a:arcTo wR="5" hR="5" stAng="10800000" swAng="-5400000"/>
                <a:lnTo>
                  <a:pt x="21595" y="3215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854280" y="0"/>
            <a:ext cx="5206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332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274680" y="-3960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ahoma"/>
              </a:rPr>
              <a:t>Thalamus is connected to the entire bottom layer of the cerebral cortex and interconnected to every part of the nervous system.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ahoma"/>
              </a:rPr>
              <a:t>The thalamic nuclei are interconnected which means that any of them could, potentially host activity from anywhere in the body or br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Stimulus parametrised by a single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might represent location of touch, location of image on retina, orientation of image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Firing rate is a Gaussian firing rate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maximum value is the preferred location of that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population co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Stimulus locations progress smoothly across array of input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Induces correlations between with the firing of neighbouring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Each stimulus location is given by the label of the neuron that has that location as its preferred stimulus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Each circle represents a group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Each network neuron is connected to the input neurons via sparse random excitatory feed-forward connections (20% connection prob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effectively connected to one fifth of the network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Network neurons all interconnected (all to all) by excitatory syn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though not shown in this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get background input that makes them spontaneously 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355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Disabled the recurrent connections in the network l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connection weights randomi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random stimulus presented for period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A – shows typical activity in the input neur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each dot is a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high density areas show stimulu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B – shows network neuron #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before STDP (da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little selectivity to any stimulus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after STDP (sol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neuron has developed input selectiv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suppressed other input (compet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No real difference between T- = T+ and T- = 5 T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Thick lines represent the strong synapses after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All of the Network neurons sensitive to the the stimuli that excites the same subset of input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271440" y="0"/>
            <a:ext cx="521316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A – Gray scale plot of synapse strength between input and network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horizontal band represents the strong synapses (shown in previous network diagram) from the input neurons in the neighbourhood of input 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B – Gray scale plot of recurrent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all rather weak in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C – Firing rate curves for network neurons 40 &amp;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both have similar sele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D – Shows selected preferred location for each network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(top of firing rate/response cur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-271440" y="0"/>
            <a:ext cx="521316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More later on activity dependent map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A – Set initial strong weights on connections between network neurons 81 to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select stimulus locations 400-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B – Set the recurrent connection weights to zero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Seeded network neurons are selective for nearby input locations and therefore begin to fire in a correlated manner at the beginning of the sim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285840" y="-1116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C – Little modification of feed-forward synapses but some modification happe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not really visible on slide due to JPEG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D – STDP strengthening recurrent connections from seeded group to othe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strong synapses from neurons 81-120 to other network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this is the strongly correlated group of network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Strengthening of recurrent connections happens because there's a single strongly correlated group of network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still multiple competing correlated groups of input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As recurrent connections grow stronger, seeded network neurons start driving unseeded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they fire slightly after stimulus from 401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introduces relationship between unseeded network neurons and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correlation between input and unseeded neurons allows STDP to strengthen connections from feed-forward inpu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64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Once feed-forward connections have strengthened, they begin to compete with recurrent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STDP favours short latencies which favours the feed-forward conn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Recurrent connections have weakened, feed-forward connections have strength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Get strong band of feed forward syn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Network at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Network neurons directly connected to input develop similar selectivities as bef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Unlike previous model, have both strong synaptic and recurrent weights at equilibrium to maintain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End up with same selectivity regardless of network neuron receiving direct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A – Feed forward synaptic strengths forming a column around input location 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hole corresponds to neurons receiving no direct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B – Recurrent synaptic strength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shows strong connections between network neurons receiving input (1-100, 201-250) and those receiving no input (101-2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C – firing rate curves for neurons 40 (getting input) and 150 (no direct input) showing similar selec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D – shows tightly bunched preferred stimulu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D – Shows preferred location for all network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-272880" y="-38160"/>
            <a:ext cx="5213160" cy="390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298440" y="0"/>
            <a:ext cx="520848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A – Initial seeding of feed forward syn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- diagonal band of strong connections shows rough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Network diagram shows state of the network after STDP has reach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Strong feed forward connections have formed a topographic map from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to network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B – Feed forward synapses after STDP has reach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- map has been r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C – firing rate curves for neurons 40 &amp; 130 before ST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D – firing rate curves once STDP has reach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E – Preferred stimulus locations before ST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F – Preferred stimulus locations after ST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- shows tighter distribution and refi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285840" y="-3960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A – initial random connects showing lack of s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B – Feed forward strengths after STDP. Stripe shows formation of continuous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C – Raster showing activity of all network neurons as stimulus is swept at a steady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- stimulus removed at 1000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270000" y="-3960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Network model shows the removal of inputs from a large section of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- model at equilibrium after ST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- network nodes that have lost connections are now partially driven by neighbouring nodes, also get input from input connections surrounding the le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A – shows the lesion in the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- all connections from input nodes 301-700 have been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B – shows connections after STDP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- network neurons now receive strong input from inputs 701-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- no mention in paper why no inputs from 1-3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C – recurrent connections with lesion before ST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D- recurrent connections post ST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E – Preferred stimulus post-recovery for T- = T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F – Preferred stimulus post-recovery for T- = 5T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-270000" y="-3960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Tau - = Tau +, shown by Bi &amp;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Tau - &gt;&gt; Tau +, shown by other studies ie Feldm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Asymmetry in STDP window function must be maintained, need a larger depression area ie total integral for all dT must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-270000" y="0"/>
            <a:ext cx="5208840" cy="39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F(dt) = STDP window function, controls how much synapse strength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Sorry for poor maths – open office and powerpoint only play so we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A – shows standard STDP window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short dashed line is for T- = T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long dashed line is for T- = 5T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B – shows the distribution of synapse strengths after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approx 50% strong and 50%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274680" y="0"/>
            <a:ext cx="5213520" cy="39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66360" y="3909600"/>
            <a:ext cx="533556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C  - STDP will strengthen synapses which are effective at rapidly evoking a post-synaptic action potential. Such as inputs that fire in a correlat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inputs 1-500 uncor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inputs 501-100 cor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D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Dominance in neural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1-500 correlated to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500-1000 correlated to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Two groups independent of each other, by equal in 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no other details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shows competitive nature of STDP chooses a 'dominant'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F – T- = 5T+ is sensitive to correlations over much longer time-s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repeat of C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plots the average strength of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46006f"/>
                </a:solidFill>
                <a:latin typeface="Arial"/>
                <a:ea typeface="Arial"/>
              </a:rPr>
              <a:t>- increase correlation time between inputs can be supported with larger period of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4247-DE1D-457A-8395-0A6B72AEF9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882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82080"/>
            <a:ext cx="82882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9AA9-0BED-4B5E-A404-AC122531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8208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120" y="368208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FAD4-69DF-42B5-980A-6769986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9440" y="155736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1680" y="155736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8208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9440" y="368208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1680" y="368208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5BA13-3245-47E7-A5F2-9D63EADBF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34566-FCDF-4CFA-90A7-EA1E0E9D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2882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E8509-8964-4B4C-8F68-93AB1E82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882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7FBCD-F420-407E-86A8-829C5967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65CBD-64A2-4DB2-8647-2B4B75CA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E37CC-2C2F-40F9-AEC9-AC65593A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107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9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D9914-1CB6-48B6-93E8-03396EE8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68208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086BB-03E6-4F7E-B6F0-868CAC87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2882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FAFF-A6E4-4CB9-8069-6987B938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4120" y="368208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887F1-0FA9-4DE0-BAC1-915213E7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682080"/>
            <a:ext cx="82882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D746E-074F-42A4-BF85-7F4510E5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882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682080"/>
            <a:ext cx="82882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D34F0-3210-4356-8F2E-41A24319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68208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4120" y="368208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6A43D-7870-4FC5-B83E-BA05A68A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9440" y="155736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1680" y="155736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68208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9440" y="368208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1680" y="3682080"/>
            <a:ext cx="26686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12B59-7D32-42A3-B783-7E4ABF2C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882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7B0A-CEDB-4E69-ABCF-B11F1E1C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F4DE-5206-41BE-8466-EC6B504D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413B-6BA2-4A23-BEFC-C44064FB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107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9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57CF-6D31-43E0-BDE3-C6C12AA7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8208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8798-FE48-48D8-B4B1-33328673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120" y="368208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034C-DBB7-403C-BB3C-127C2140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120" y="1557360"/>
            <a:ext cx="40446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82080"/>
            <a:ext cx="82882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262C-884D-4E4C-B615-11BA9B2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557360"/>
            <a:ext cx="82882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1072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77920" y="649728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373800" y="649728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4D481-A322-4704-B4A3-E9F4EB6FC8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36800"/>
            <a:ext cx="9144000" cy="298764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6000" y="2062080"/>
            <a:ext cx="791676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7200" y="660528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3720" y="6605280"/>
            <a:ext cx="2892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60528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546E75-82F6-4013-9D78-5A8E8BED88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38960" y="388152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4409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360" y="1984320"/>
            <a:ext cx="79200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rtical Development and Remapping through Spike Timing Dependent Plasticity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6360" y="3754440"/>
            <a:ext cx="79200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 Song &amp; L.F Abbot (Brandeis Univers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ublished in Neuron, Vol. 32, 339-250, October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600"/>
            <a:ext cx="81104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velopment of Selectivity &amp; Colum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vious studies have shown that Hebbian plasticity can cause selectivity in neurons [Millar:1994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previous models requires constraints [Song:2001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vent all synapses decaying to zero or all growing to maximum weigh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do not appear biologically plausible based on empirical evide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ng &amp; Abbot theorise that the competitive nature of STDP can generate such selectivity by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get group sel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asic Network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es Thalamic relay neurons providing input to a recurrently connected cortical circ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00 input neurons driving 200-250 network neu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put neurons fed simulated stimu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imulus parametrised by single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tion of touch, orientation of visual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ring rate of input neurons is response to stimulus and follows Gaussian cu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asic Model Continu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25360" y="1728720"/>
            <a:ext cx="6959880" cy="425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velopment of Sele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7840" y="1841400"/>
            <a:ext cx="878688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lectivity 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DP leads to the strengthening of synapses of groups of correlated 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t strong feed-forward connections from sets of input neu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e of selectivity is ran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fferent starting conditions lead to network neurons with random preferred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selective neurons but not groups of selective neu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selective colum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w add recurrent connection to network lay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l to all recurrent excitatory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eat previou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ndom weights for feed-forward synap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urrent connection weights set to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Colum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4440" y="2649600"/>
            <a:ext cx="6921720" cy="21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a Selective Colum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57240" y="1219320"/>
            <a:ext cx="7107120" cy="56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lective Column Formation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cilitated by recurrent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at equilibrium these connections are very we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difference in τ- = τ+ and τ- = 5τ+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does column selectivity devel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 now seed for selectivity (ease of presentat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consider this activity-independent map 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eding a Selective Colum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7840" y="2757600"/>
            <a:ext cx="8821800" cy="3709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19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tial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ed forward                       Recurr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troduction – 10,000 ft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8480" y="1440000"/>
            <a:ext cx="82915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ng et al [Song:2000] showed that STDP introduces a mechanism for pre synaptic neurons to compete for the timing of post synaptic action potent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this paper, they investigate STDP's role in  development of cortical columns and ma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ypothesis is that STDP can account for the major features of development and plasticity in maps and columns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76320" y="4037040"/>
                <a:ext cx="73080" cy="1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eding a Selective Colum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7840" y="2965320"/>
            <a:ext cx="8786880" cy="3654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1197000"/>
            <a:ext cx="82915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fter some time but before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Feed forward                       Recurr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eding a Selective Colum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7840" y="2816280"/>
            <a:ext cx="8786880" cy="3733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1197000"/>
            <a:ext cx="82915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Feed forward                       Recurr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lumn development further 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τ- = 5τ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lumn development happens in similar fash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left with strong recurrent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ger correlation period supports some random strengthening of conn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stabilises clusters of network neurons with their own sele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umnar structure is 'less tight'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ll primarily driven by feed-forward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Multiple Lay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the Thalamus not all network layers receive direct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twork model now has some network neurons with no direct in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umber of network neurons increased to 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rons 101-200 receive no direct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n view these neurons as an additional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Multiple Lay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03240" y="1671480"/>
            <a:ext cx="7404120" cy="372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Multiple Lay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98720" y="1219320"/>
            <a:ext cx="6678360" cy="560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090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arameter sensi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00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lumn formation can occur over a wide rang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sensitive to ratio of areas under LTD/LTP in STDP window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800" spc="-1" strike="noStrike" baseline="-33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(A-.τ-)/(A+.τ+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tio must be greater than one to prevent uncontrolled synaptic growth [Song:200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tio for recurrent connections (B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re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 must be less than ratio for feed forward (B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ff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wise column selectivity can be dis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+ is too large, recurrent synapses show oscil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090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rtical M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00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own that STDP leads to column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nner takes all situation. Forms single colum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 what conditions do continuous map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restricting the spread of sel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mit range of recurrent connections to neighbourh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ling the ratio (B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recu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: (B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f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so that feed forward connections domi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B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recu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must be strong enough to allow recurrent connections to transfer selec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 with a seeded activity independent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Cortical M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7120" y="1355760"/>
            <a:ext cx="8461440" cy="516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Cortical M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9480" y="1182600"/>
            <a:ext cx="7275600" cy="56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440000"/>
            <a:ext cx="82915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ick review of relevant features of STDP for single post-synaptic neuron mod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 of sel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mation of selective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mation of continuous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th activity dependent and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sticity in cortical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ions &amp;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76320" y="4037040"/>
                <a:ext cx="73080" cy="1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68400"/>
            <a:ext cx="810900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seeded development of Cortical 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00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7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tivity-independent maps have been shown to be refined by STD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bout the formation of activity dependent map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7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n without see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7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get selective column as 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now adds all-to-all uniform inhibitory connections between network neu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7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xed strength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7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network neurons to develop different location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citatory connections favour similar location stimul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mited to local neighbourhoods, as in seeded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hibitory connections allow neurons to develop different pre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nseeded development of M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7920" y="1139760"/>
            <a:ext cx="7193160" cy="57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090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nseeded map formation 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00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rt-range excitation and long-range inhibition required for smooth changing cortical ma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m of map depends on connection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citatory connections between 40 and 100 other neurons worked b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ove this, map does not cover full range of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090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lasticity in developed m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00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s can be reorganised on the basis of injury or behavioural tr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l model demonstrates how STDP provides a mechanism for lesion induced plast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move all feed-forward synapses for some of the network neurons in a developed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puts 301-7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9920" y="17892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dult Plasticity of Cortical M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3840" y="1379520"/>
            <a:ext cx="8246880" cy="5133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dult Plasticity of Cortical M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55800" y="1147680"/>
            <a:ext cx="6927840" cy="571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nclusions of pap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ious models of cortical map development had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chanisms not competitive so other constraints where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 mechanism lacking biological underpi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DP solves thes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asymmetry transfers selectivity across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ups of neurons become sel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ive the development of selectivity in other neur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acher (selective group) drives student (non-selective grou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aching terminates once selectivity has been transfe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nclusions Cont.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nclusion Cont.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usible mechanism for selectivity via STDP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ient increases in inter-cortical (recurrent) connections as they are more corre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urrent connections then aid the strengthening of feed forward conn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cess terminates with the weakening of recurrent conn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ng feed-forward pathways 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orter latency of feed-forward over recurrent inputs creates domin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me-scale Eff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29152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τ- = τ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vours feed forward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s recurrent connections when feed forward connections un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τ- &gt;&gt; τ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onger recurrent connections pers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ter sensitivity to longer input correlation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ld explain to regional variations in STD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uning to perform different function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360" y="1471320"/>
            <a:ext cx="8291520" cy="39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tical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ps of orientation and spatial frequency preference have been described in the primary visual corte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examples are the orientation columns and hypercolumns discussed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orists [Song:2001] [Kepecs:2002] etc speculated that the formation of these cortical maps requi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rrelation based Hebbian synaptic plast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chanisms for competition amongst synap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nclusions and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provides a compelling framework for cortical map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ched by biological data [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chtenberg:2001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wever, work done with first order STDP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 additive rule used by Song &amp; Ab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ach pre-post synaptic pair interaction is indep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ules very simple and more biologically plausible rules proposed (2</a:t>
            </a:r>
            <a:r>
              <a:rPr b="0" lang="en-GB" sz="2400" spc="-1" strike="noStrike" baseline="33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rder rules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e that plastic changes can prevent further plastic changes. [Kepecs:2002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r evidence that synaptic plasticity is dependent on the present weights of the system. [Bi &amp; Poo's model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09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rther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008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 is highly sensitive to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9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windows of parameters required to see map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&lt; B</a:t>
            </a:r>
            <a:r>
              <a:rPr b="0" lang="en-GB" sz="2800" spc="-1" strike="noStrike" baseline="-33000">
                <a:solidFill>
                  <a:srgbClr val="ffffff"/>
                </a:solidFill>
                <a:latin typeface="Arial"/>
                <a:ea typeface="Times New Roman"/>
              </a:rPr>
              <a:t>recu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lt; B</a:t>
            </a:r>
            <a:r>
              <a:rPr b="0" lang="en-GB" sz="2800" spc="-1" strike="noStrike" baseline="-33000">
                <a:solidFill>
                  <a:srgbClr val="ffffff"/>
                </a:solidFill>
                <a:latin typeface="Arial"/>
                <a:ea typeface="Times New Roman"/>
              </a:rPr>
              <a:t>ff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lt; 1.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9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onship of time window has large effect on the range of correlations STDP is sensitiv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9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ights range imposed on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9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y are inhibitory connections used to generate maps not allowed to be plast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ever, this is still very useful work showing the potential for STDP as a mechanism for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7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pecs, A., van Rossum W.C.W, Song, S. and Tegner, J. (2002) “Spike timing-dependent plasticity: common themes and divergent vistas.” Biological Cybernetics, 87, 446-45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ller, K.D. &amp; MacKay, D.J.C, (1994) “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 role of constraints in Hebbian Learning.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ral Comp, 6, 100-12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ng, S. Miller, K. and Abbot, L.F. (2000) “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Competitive Hebbian Learning through spike-timing-dependent plast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” Nature Neuroscience, 3, 919-92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chtenberg JT, Stryker MP (2001)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Rapid anatomical plasticity of horizontal connections in the developing visual cortex.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 Neu-rosci 21: 3476–348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090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60840" y="1906560"/>
            <a:ext cx="361152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ackground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und famili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DP has been shown to solve these problems [Song:2000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797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DP forces synapses to compete with each other for control of post-synaptic action potenti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ads to competitive Hebbian synaptic mod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240" indent="-3362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fore can STDP account for the major features of activity-dependent plasticity of columns and m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king at both development and plast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-33480"/>
            <a:ext cx="811044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DP and Pre synaptic Correlation Ti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visit how STDP affects synapses into a single neu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0 neurons driving one post-synaptic neu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 synaptic spikes arriving slightly before post-synaptic firing produce potent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ndom pre-post synaptic action potentials result in dep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t bimodal equilibrium distribution of synaptic strengths [Song:2000]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09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ng &amp; Abbot’s STDP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7624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) = T</a:t>
            </a:r>
            <a:r>
              <a:rPr b="0" lang="en-GB" sz="3200" spc="-1" strike="noStrike" baseline="-33000">
                <a:solidFill>
                  <a:srgbClr val="ffffff"/>
                </a:solidFill>
                <a:latin typeface="Arial"/>
              </a:rPr>
              <a:t>p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- T</a:t>
            </a:r>
            <a:r>
              <a:rPr b="0" lang="en-GB" sz="3200" spc="-1" strike="noStrike" baseline="-33000">
                <a:solidFill>
                  <a:srgbClr val="ffffff"/>
                </a:solidFill>
                <a:latin typeface="Arial"/>
              </a:rPr>
              <a:t>po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(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)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+ exp(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/τ+) i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&lt;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(A-) exp(-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/τ-) i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&gt;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o models considered through out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τ- = τ+ and τ- = 5τ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06920" y="2112840"/>
            <a:ext cx="35290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DP – Window &amp; bimodal distrib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0200" y="2070000"/>
            <a:ext cx="8426520" cy="350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10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DP – Correla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7040" y="1182600"/>
            <a:ext cx="7338960" cy="569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dp24</cp:lastModifiedBy>
  <cp:revision>0</cp:revision>
  <dc:subject/>
  <dc:title>Slide 1</dc:title>
</cp:coreProperties>
</file>